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2A296E4-6D3D-4FCC-A635-16DA2205B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66EF3F-CCF3-479B-9E34-60BBA40D0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48DEF5F-4C4F-44CE-8F5F-5FB3E9175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A81156-8E01-4177-9DA8-4B1130821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7FA10-54FA-43A8-A74D-AC52D2107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4C33A-CA57-4CC2-AB6D-1C19634B6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0D1AE-E874-44D5-AA0E-288AD391A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DE246-CE5C-4D58-A3BD-328816CF1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15DF6-D53F-4AAD-B557-9071A1139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84C1D-C3B6-4590-B5F0-28A9D655E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6D32D-AC1A-4E48-B5ED-CCC1A11A0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ECDD34-6397-4235-B367-D6C6BC4B2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D208C-B36A-4E1D-9EFF-16276DA7A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4CC2A-16B9-43C5-8913-E269AE880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4DE88-E584-4649-925B-1B62724F0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14488-66A7-4C71-A7E5-A9F85ACE4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6ED5C-2B74-4639-81AE-789508087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DEE41D-1676-4B8B-BBE9-A0636D274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78D0FF-89C0-4F52-9C45-08C29518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419959-6802-4196-B297-AD215786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4487B4-3E12-4942-B783-21694F782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859A26-179E-4C7B-B189-A4582C6B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036E6B-2D6B-42CA-95C1-FF3562841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3D4A1E-5778-446E-85E4-918AEAC1D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F6A8-7659-419A-AF36-08282BDC39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2E0B-68FA-45FB-B2BA-48871EB2AF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ipa.com/rbc/2003/2003SPEC301BANGLADESH.pdf#search=%22piracy%20in%20bangladesh%22" TargetMode="External"/><Relationship Id="rId2" Type="http://schemas.openxmlformats.org/officeDocument/2006/relationships/hyperlink" Target="http://www.iipa.com/rbc/2006/2006SPEC301BANGLADESH.pdf#search=%22piracy%20in%20bangladesh%22" TargetMode="External"/><Relationship Id="rId3" Type="http://schemas.openxmlformats.org/officeDocument/2006/relationships/hyperlink" Target="http://www.theage.com.au/news/Breaking/Microsoft-asks-Bangladesh-to-end-piracy/2004/11/24/1101219582159.html?from=moreStories"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iracy In Bangladesh</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Software Piracy</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far, the biggest legal problem affecting the computer industry today is software piracy, which is the illegal copying or use of programs. Piracy is a huge problem mainly because it is so easy to do. In most cases, it is no more difficult to steal a program than it is to tape a music CD that you have borrowed from a friend. Software pirates give up the right to receive upgrades and technical support, but they gain the use of the program without paying for it.</a:t>
            </a:r>
            <a:br>
              <a:rPr sz="2800"/>
            </a:br>
            <a:r>
              <a:rPr b="0" lang="en-US" sz="2800" spc="-1" strike="noStrike">
                <a:solidFill>
                  <a:srgbClr val="ffffff"/>
                </a:solidFill>
                <a:latin typeface="Garamond"/>
              </a:rPr>
              <a:t>www.glencoe.com/norton/online/essential/appendixa/content.html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cial Issues</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iracy in Bangladesh only emerged since there was no enforcement at all preventing it.</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takeholders –</a:t>
            </a:r>
            <a:r>
              <a:rPr b="0" lang="en-US" sz="3200" spc="-1" strike="noStrike">
                <a:solidFill>
                  <a:srgbClr val="ffffff"/>
                </a:solidFill>
                <a:latin typeface="Garamond"/>
              </a:rPr>
              <a:t> </a:t>
            </a:r>
            <a:r>
              <a:rPr b="0" lang="en-US" sz="2400" spc="-1" strike="noStrike">
                <a:solidFill>
                  <a:srgbClr val="ffffff"/>
                </a:solidFill>
                <a:latin typeface="Garamond"/>
              </a:rPr>
              <a:t>Producers (such as companies which make software and companies that make movies or music), the Users (us) because we are promoting illegal business are in risk of getting fined 250,000 dollars and imprisonment according to the law. The dealers who are selling the pirated copies of software. And  the government because they are showing the rest of the world lack of enforcement in their country</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dvantages/Disadvantages for Stakeholders</a:t>
            </a:r>
            <a:endParaRPr b="1" lang="en-US" sz="4000" spc="-1" strike="noStrike">
              <a:solidFill>
                <a:srgbClr val="e5e5ff"/>
              </a:solidFill>
              <a:latin typeface="Garamond"/>
            </a:endParaRPr>
          </a:p>
        </p:txBody>
      </p:sp>
      <p:graphicFrame>
        <p:nvGraphicFramePr>
          <p:cNvPr id="106" name=""/>
          <p:cNvGraphicFramePr/>
          <p:nvPr/>
        </p:nvGraphicFramePr>
        <p:xfrm>
          <a:off x="457200" y="1600200"/>
          <a:ext cx="8229600" cy="4281480"/>
        </p:xfrm>
        <a:graphic>
          <a:graphicData uri="http://schemas.openxmlformats.org/drawingml/2006/table">
            <a:tbl>
              <a:tblPr/>
              <a:tblGrid>
                <a:gridCol w="411480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vantage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sadvantag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0120">
                <a:tc>
                  <a:txBody>
                    <a:bodyPr lIns="90000" rIns="90000" tIns="46800" bIns="46800" anchor="t">
                      <a:noAutofit/>
                    </a:bodyPr>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cheap to obtain very expensive softwar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ople do not get updates and patches</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s of money for manufacturers.</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sk of getting fined and imprisoned both to software resellers and the consumer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cial Issue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ware piracy affects the IT development a lot since it is not fair for people to sell their products at such low prices since it indeed is expensive to create such complex softwar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ufacturers do not make estimated profits and some may even suffer in losses with the launch of a new softwa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thical Issue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government is mainly responsible as well as the manufacturers since they are aware of software piracy and have not taken proper security measur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aw and the people who make the security of the software are accountable.</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PO Copyright Treaty applies to this policy</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equences are getting fined severely and impris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olutions for the Bangladesh Government</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rack down on pirate production facilities (especially pirate optical disc plants and CD-R duplication units) and pirate retail outlets through sustained raids by enforcement authorities (including surprise inspections), followed up by swift police investigations, efficient handling by prosecutors, imposition of deterrent penalties and destruction of all infringing articles as well as materials and implements used in the pirate activities.</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hance border enforcement, especially including seizures of imports and exports of pirated audio CDs, CD-ROMs and cassettes, and the tracking of machinery and parts (including masters and stampers) used to produce such pirated goods, including optical disc production equipment.</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mptly pass and implement an optical disc law to regulate optical disc production, production equipment, raw materials and facilities.</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mptly accede to and implement the </a:t>
            </a:r>
            <a:r>
              <a:rPr b="0" lang="en-US" sz="1800" spc="-1" strike="noStrike">
                <a:solidFill>
                  <a:srgbClr val="ffffff"/>
                </a:solidFill>
                <a:latin typeface="Garamond"/>
              </a:rPr>
              <a:t>WIPO Copyright Treaty</a:t>
            </a:r>
            <a:r>
              <a:rPr b="0" lang="en-US" sz="2000" spc="-1" strike="noStrike">
                <a:solidFill>
                  <a:srgbClr val="ffffff"/>
                </a:solidFill>
                <a:latin typeface="Garamond"/>
              </a:rPr>
              <a:t> (WCT) and the WIPO</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erformances and Phonograms Treaty (WPPT) and update the Copyright Ac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ticle URL and Resourc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ticle URL:</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rPr>
              <a:t>http://www.iipa.com/rbc/2003/2003SPEC301BANGLADESH.pdf#search=%22piracy%20in%20bangladesh%22</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ource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2"/>
              </a:rPr>
              <a:t>http://www.iipa.com/rbc/2006/2006SPEC301BANGLADESH.pdf#search=%22piracy%20in%20bangladesh%22</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3"/>
              </a:rPr>
              <a:t>http://www.theage.com.au/news/Breaking/Microsoft-asks-Bangladesh-to-end-piracy/2004/11/24/1101219582159.html?from=moreStorie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smartraveller.gov.au/zw-cgi/view/Advice/Bangladesh</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en.wikipedia.org/wiki/Pirate</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ww.thedailystar.net/strategic/2006/01/02/strategic.htm</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02:39:48Z</dcterms:created>
  <dc:creator>Atif Sattar</dc:creator>
  <dc:description/>
  <dc:language>en-US</dc:language>
  <cp:lastModifiedBy>Atif Sattar</cp:lastModifiedBy>
  <dcterms:modified xsi:type="dcterms:W3CDTF">2006-09-25T02:56:31Z</dcterms:modified>
  <cp:revision>4</cp:revision>
  <dc:subject/>
  <dc:title>Piracy In Bangladesh</dc:title>
</cp:coreProperties>
</file>